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944-5B84-4216-9CFE-47D10DDF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097-A9F2-492A-9239-C1B45EEA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658-1098-48EB-93EA-2B12DD96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620-A926-4DDA-A1AD-C864E22B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5B6-FD73-4680-A679-850AF2FE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583-8CD7-4F76-92E1-9FE507AA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3BF-62C4-4B50-BDA1-6E55E1D4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863-33FA-4F64-BB0C-9E938967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1B7-B3A9-4249-933E-54348BAF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4CA-988D-4FA1-B009-195188CD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31C-4B2B-4197-B836-C29B6BEE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8EE-ED6C-4FEC-9A66-F930ED34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6B30-91AF-4052-B863-4F8968699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320" y="2066760"/>
            <a:ext cx="3581280" cy="204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0" b="3346"/>
          <a:stretch/>
        </p:blipFill>
        <p:spPr>
          <a:xfrm>
            <a:off x="3809880" y="2693880"/>
            <a:ext cx="53341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76920" y="952560"/>
            <a:ext cx="4246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831960"/>
            <a:ext cx="4184640" cy="519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14960" y="833400"/>
            <a:ext cx="33955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727280"/>
            <a:ext cx="4876920" cy="340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231920"/>
            <a:ext cx="33084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674640"/>
            <a:ext cx="3741840" cy="5508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53200" y="687240"/>
            <a:ext cx="31813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267080" cy="3757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211932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57800" y="782640"/>
            <a:ext cx="3432240" cy="529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752400"/>
            <a:ext cx="42832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320" y="2743200"/>
            <a:ext cx="4800600" cy="137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6969" r="0" b="9409"/>
          <a:stretch/>
        </p:blipFill>
        <p:spPr>
          <a:xfrm>
            <a:off x="5029200" y="2679840"/>
            <a:ext cx="41148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563400"/>
            <a:ext cx="3789360" cy="5729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-6175" r="0" b="4123"/>
          <a:stretch/>
        </p:blipFill>
        <p:spPr>
          <a:xfrm>
            <a:off x="4572000" y="606600"/>
            <a:ext cx="43434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4240" y="552600"/>
            <a:ext cx="4182840" cy="5752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6097" t="4228" r="11565" b="9110"/>
          <a:stretch/>
        </p:blipFill>
        <p:spPr>
          <a:xfrm>
            <a:off x="4667400" y="533520"/>
            <a:ext cx="4400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1760" y="979560"/>
            <a:ext cx="4287960" cy="4897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4120" y="2138400"/>
            <a:ext cx="33526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320" y="1327320"/>
            <a:ext cx="4419360" cy="4201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40200" y="1285920"/>
            <a:ext cx="43038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320" y="1711440"/>
            <a:ext cx="4419360" cy="343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29200" y="747720"/>
            <a:ext cx="37879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1874880"/>
            <a:ext cx="3657600" cy="3108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1504800"/>
            <a:ext cx="24224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2903760" cy="609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9920" y="1809720"/>
            <a:ext cx="20746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914400"/>
            <a:ext cx="4483080" cy="563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86400" y="1701720"/>
            <a:ext cx="31939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218" t="1078" r="0" b="0"/>
          <a:stretch/>
        </p:blipFill>
        <p:spPr>
          <a:xfrm>
            <a:off x="76320" y="809640"/>
            <a:ext cx="4343400" cy="523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34080" y="800280"/>
            <a:ext cx="4309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519120"/>
            <a:ext cx="3809880" cy="581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3029" r="0" b="0"/>
          <a:stretch/>
        </p:blipFill>
        <p:spPr>
          <a:xfrm>
            <a:off x="4952880" y="36360"/>
            <a:ext cx="406584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320" y="1173240"/>
            <a:ext cx="4572000" cy="451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97520" y="1152360"/>
            <a:ext cx="414648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320" y="1733400"/>
            <a:ext cx="3144600" cy="3391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1379520"/>
            <a:ext cx="51814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320" y="2533680"/>
            <a:ext cx="4572000" cy="179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2544840"/>
            <a:ext cx="441972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5:06:51Z</dcterms:created>
  <dc:creator>Emmanuel Petit</dc:creator>
  <dc:description/>
  <dc:language>en-US</dc:language>
  <cp:lastModifiedBy>asa29</cp:lastModifiedBy>
  <dcterms:modified xsi:type="dcterms:W3CDTF">2004-10-07T14:49:13Z</dcterms:modified>
  <cp:revision>35</cp:revision>
  <dc:subject/>
  <dc:title>PowerPoint Presentation</dc:title>
</cp:coreProperties>
</file>